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A205-2250-4151-9E09-2792311A16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31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F97B-4539-448E-9DBB-B561415D2A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591-BD08-4D3F-BBE5-280A8C91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C84-0451-4680-98F7-C3BA167D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584-04BC-4881-ACFB-7E0988A8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A4A-2348-4566-9C6F-8328521E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AA74-31BC-4BD5-97E9-DF04589B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5EC7-2F0C-47FB-BE75-127917F9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0E41-298A-42A4-84BC-27867FBB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94D3-0E88-4F64-BC1A-16CCC13E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6439-020C-4D13-8E21-94E6A31C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F969-1281-4250-A70D-6E778B0A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9E06-B894-42CD-947D-8DEEEA7B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362-520C-46B6-96A4-7C66A06D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7672-A2D4-4167-A353-101DAAC2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03BE-5DD5-4677-BE4B-D4E9FD7D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3C27-DAF7-4CF3-9919-4CF70691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CBF1-5C08-42E4-B6EE-B99AC5BD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3304-1906-42BA-A2AB-CDD841EC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275-18A2-43E9-88BF-B8EE3C8A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650-13AA-4F6B-AA2D-2A7BDBDD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551-6E5F-4FE4-B787-3EB9FFA3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57D-63C8-4740-9814-AB5BF3D5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962-097E-4C39-9F9C-B4953EF1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5F1-3970-4D49-B13B-2CD077E4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405-3D56-42CB-925A-02CD5926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0185-FABF-42A6-BA48-8F738317FB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026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Rectangle 1027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28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029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030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31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32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033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34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35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036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037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038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039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40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41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42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43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044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45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46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049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4" name="Rectangle 1050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1051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6" name="Rectangle 1052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1053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1054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1055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1056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57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058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1059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1060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1061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1062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063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8" name="Rectangle 1064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065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066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067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068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069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070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071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710E-74E7-49E6-A5BE-838F0E036A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Алгебра высказываний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 и только тогда, когда истинны все входящие в него логические переменны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Кон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стинна только функция (4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кон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&amp; B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and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Значение логической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функции определяется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по ее таблице истинности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Таблица истинности показывает какие значения принимает логическая функция при всех возможных значениях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Л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сл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, когда истинна хотя бы одна из входящих в него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из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жна только функция (1)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остальные истинны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диз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B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+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or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Алгебра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лгебра высказываний была разработана для того, чтобы определять истинность или ложность составных высказываний, не вникая в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исоединение частицы «НЕ» к высказыванию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отрица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ое отрицание (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) делает истинное высказывание ложным, а ложное – истинным 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гическая отрицательна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единица, перевертыш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нверс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Пусть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A =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=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истинное высказывание, тогд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F(A) =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≠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ложное высказыв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инверс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not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нверс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0480" y="2209680"/>
          <a:ext cx="5641920" cy="2743200"/>
        </p:xfrm>
        <a:graphic>
          <a:graphicData uri="http://schemas.openxmlformats.org/drawingml/2006/table">
            <a:tbl>
              <a:tblPr/>
              <a:tblGrid>
                <a:gridCol w="2820960"/>
                <a:gridCol w="2820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¬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ы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основных логических функци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878360" y="1746360"/>
            <a:ext cx="3843360" cy="2783880"/>
          </a:xfrm>
          <a:prstGeom prst="roundRect">
            <a:avLst>
              <a:gd name="adj" fmla="val 7981"/>
            </a:avLst>
          </a:prstGeom>
          <a:blipFill rotWithShape="0">
            <a:blip r:embed="rId1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410080" y="2344680"/>
            <a:ext cx="827280" cy="20145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303960" y="2344680"/>
            <a:ext cx="826920" cy="201456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218360" y="2344680"/>
            <a:ext cx="990720" cy="201456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1066680" y="2455920"/>
            <a:ext cx="3648240" cy="2783880"/>
          </a:xfrm>
          <a:prstGeom prst="roundRect">
            <a:avLst>
              <a:gd name="adj" fmla="val 7981"/>
            </a:avLst>
          </a:prstGeom>
          <a:blipFill rotWithShape="0">
            <a:blip r:embed="rId5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с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876920" y="4721400"/>
            <a:ext cx="3887640" cy="2059560"/>
          </a:xfrm>
          <a:prstGeom prst="roundRect">
            <a:avLst>
              <a:gd name="adj" fmla="val 11338"/>
            </a:avLst>
          </a:prstGeom>
          <a:blipFill rotWithShape="0">
            <a:blip r:embed="rId6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095880" y="5319720"/>
            <a:ext cx="827280" cy="126036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999120" y="5319720"/>
            <a:ext cx="827280" cy="126036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¬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459080" y="3124080"/>
            <a:ext cx="826920" cy="197496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373480" y="3124080"/>
            <a:ext cx="826920" cy="1974960"/>
          </a:xfrm>
          <a:prstGeom prst="rect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287880" y="3124080"/>
            <a:ext cx="979200" cy="1974960"/>
          </a:xfrm>
          <a:prstGeom prst="rect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ополнительные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логические функции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мпликацию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эквивалентность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можно выразить через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конъюнкцию, дизъюнкцию и отрицание,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этому их называют дополнительными логическими функциями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↔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Объединение двух высказываний, из которых первое является условием, а второе – следствием из него, называется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импликацией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логическим следованием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– простые высказывания, содержащие только одну мысль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Обозначаются буквами латинского алфавита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, B, C…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могут принимать лишь два значения: «ИСТИНА» (1) или «ЛОЖЬ» (0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Импликация ложн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тогда и только тогда, когд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условие истинно,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а следствие ложно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Если выучишь материал, то сдашь зачет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то высказывание ложно только тогда, когд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атериал выуче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зачет не сда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т.к. сдать зачет можно и случайно, например если попался единственный знакомый вопрос или удалось воспользоваться шпаргалко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мплика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Эквивалентность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 Narrow"/>
              </a:rPr>
              <a:t>Эквивалентность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– это логическая операция, объединяющая два простых высказывания в одно составное и которое является истинны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огда и только тогда, ког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ба исходных высказывания одновременно либо истинны, либо ложны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эквивалентност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Перемести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Сочета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Распределительны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равила де Морган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Идемпотен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оглощ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пример, два простых высказыва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 = «2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4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а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 = «2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5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являются логическими переменными А и 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Склеи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Переменная </a:t>
            </a:r>
            <a:br>
              <a:rPr sz="4400"/>
            </a:b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со своей инверсие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0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Операция с константам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0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Двойного отриц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(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рядок действ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ействия в скобка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квивалентнос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высказывани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обозначаются именами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х переменных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которые могут принимать лишь два значения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ИСТИНА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1) или 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ЛОЖЬ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0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над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ми переменным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над высказываниями) можно производить определенные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е операци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в результате которых получаются новые высказывания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остав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я, состоящие из нескольких простых суждений и содержащие в себе более, чем одну простую мысль, называ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логическими функция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означаются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(A,B,C…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гут принимать значения «ИСТИНА» или «ЛОЖЬ» в зависимости от того, какие значения имеют входящие в их состав логические переменные и от действий над ни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опера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умножение, «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ожение, «ИЛ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нверс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отрицание, «НЕ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едование, «Если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, то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равенство, «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тогда и только тогда, когда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умн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1:1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